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5D90-C921-4FB2-9F81-3D0A7CD0B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0D82E-88CB-4FD8-9E58-723D85C2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D06A-4FAC-45F9-A127-CFD2B3DC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5154-E3C9-46A7-9EAA-DA5106E8B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C549-2B27-4B0F-B08D-10E65FC2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F6F70-8F3F-4191-BF80-7D8692CD8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EF2F-005E-4747-8BB5-30938B56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BE5C-8FE3-44C2-87CE-EF5D16CF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F82F-D89C-4DF8-811B-FDCCBB1B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35FC-0597-4CBA-8406-54ABE6595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0113-D52A-430B-88B2-007918DAC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FBEB-2FF6-4783-A5C3-3E34923D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60C4-6BA8-4E46-8A46-C152ECEF1C9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128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ccffff"/>
                </a:solidFill>
                <a:latin typeface="Arial"/>
              </a:rPr>
              <a:t>What the world eats.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11280" y="2492280"/>
            <a:ext cx="8208720" cy="415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 american photographer, Peter Menzel, travelled around the world in 2005 and took photos of what 30 different families in different countries typically ea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n a normal week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Food Nutrition Eating Health Diet &lt;span style='font-weight: bold'&gt;&lt;/span&gt;&lt;span style='font-weight: bold'&gt;&lt;/span&gt;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49600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978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333360"/>
            <a:ext cx="856908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468360" y="404640"/>
            <a:ext cx="842472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answers…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4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 Italy           £164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 Mexico       £1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Mongolia    £2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 China         £98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5. Germany   £3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6. Ecuador     £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7. Kuwait       £1.4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59280" y="1628640"/>
            <a:ext cx="4043520" cy="54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8. Bhutan      £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9. England     £15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. Egypt          £4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1. USA           £21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2. Chad          63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3. Japan         £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4. Poland        £9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Product Details"/>
          <p:cNvPicPr/>
          <p:nvPr/>
        </p:nvPicPr>
        <p:blipFill>
          <a:blip r:embed="rId1"/>
          <a:stretch/>
        </p:blipFill>
        <p:spPr>
          <a:xfrm>
            <a:off x="468360" y="333360"/>
            <a:ext cx="454824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003640" y="620640"/>
            <a:ext cx="4392720" cy="81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Unicode MS"/>
              </a:rPr>
              <a:t>His photos are published in ‘The Hungry Planet’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ffff"/>
                </a:solidFill>
                <a:latin typeface="Arial"/>
              </a:rPr>
              <a:t>Les pays dans les image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États-Un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Mexiqu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Équateu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Angleterr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Polog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Allemag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 Unicode MS"/>
              </a:rPr>
              <a:t>Ital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Jap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Chin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Mongoli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Bout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Koweï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Égyp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Tcha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684360" y="404640"/>
          <a:ext cx="8135280" cy="6192720"/>
        </p:xfrm>
        <a:graphic>
          <a:graphicData uri="http://schemas.openxmlformats.org/drawingml/2006/table">
            <a:tbl>
              <a:tblPr/>
              <a:tblGrid>
                <a:gridCol w="2711880"/>
                <a:gridCol w="2711520"/>
                <a:gridCol w="2711880"/>
              </a:tblGrid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250920" y="404640"/>
            <a:ext cx="856908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95280" y="404640"/>
            <a:ext cx="842472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Food Nutrition Eating Health Diet &lt;span style='font-weight: bold'&gt;&lt;/span&gt;"/>
          <p:cNvPicPr/>
          <p:nvPr/>
        </p:nvPicPr>
        <p:blipFill>
          <a:blip r:embed="rId1"/>
          <a:stretch/>
        </p:blipFill>
        <p:spPr>
          <a:xfrm>
            <a:off x="324000" y="260280"/>
            <a:ext cx="856908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1T19:15:32Z</dcterms:created>
  <dc:creator>student</dc:creator>
  <dc:description/>
  <dc:language>en-US</dc:language>
  <cp:lastModifiedBy>student</cp:lastModifiedBy>
  <dcterms:modified xsi:type="dcterms:W3CDTF">2012-03-13T11:00:48Z</dcterms:modified>
  <cp:revision>30</cp:revision>
  <dc:subject/>
  <dc:title>What the world eats. </dc:title>
</cp:coreProperties>
</file>